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8219-9CE1-4565-A122-2ABEB7A1E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195A-34D5-47E7-83B2-BCA906FBD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01E-5320-48C5-8DDC-FF2F7721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CFC-4392-41AA-B111-FE3074BA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0F5-203C-438F-BAC2-6132CDB7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840-ABEE-4028-A78C-B2B452E7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6EB-974A-45B7-BCE9-299E93E5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450-1E6F-4B41-BD76-0999BD37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EEF-11A9-4042-85A7-EB002E46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061-36F7-4531-B1EF-34F58163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F28-99DC-426F-B250-7961A41E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CC0-4778-4C66-B25A-244B12E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F7E-AB8F-45C0-8D95-0B0FA10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E78-E088-4EE8-9DDC-AA87E2C7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8698-F8A3-4435-9D30-05859F4AD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2133360"/>
            <a:ext cx="8218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školy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Číslo projektu: CZ.1.07/1.5.00/34.095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zdělávací materiál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nstrukční prvky ČSN 2.dí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materiálu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_32_INOVACE_ZSP.4.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um tvorby: 2. 11.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učovací předmět, ročník, obor: ZSP, 4. ročník, Asistent zubního tech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r. Martina N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ac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Vzdělávací materiál využívá ICT při výuce a tím inovuje výuku praktického vyučování, zároveň motivuje a aktivuje žáky. Seznamuje žáky s jednoduchým rozdělením konstrukčních prvků s jejich funkcí a umístění. Tato prezentace navazuje na 1. díl konstrukčních prvků ČS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755640" y="277920"/>
            <a:ext cx="7489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Spojovací prv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jovací prvky mají podkovovitý tvar a jsou li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ní čelist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řední třm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umisťujeme 3-5 mm 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ginální gingivy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br.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adní patrový tř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isťujeme před nebo na zadní okr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vrdého pa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řední patrový třm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nejvhodnější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hází příčně středem patra – pacient ho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br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ktivně téměř necítí, nedráždí gingi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C:\Users\Chalupna\Desktop\Nová složka\000_0012.JPG"/>
          <p:cNvPicPr/>
          <p:nvPr/>
        </p:nvPicPr>
        <p:blipFill>
          <a:blip r:embed="rId1"/>
          <a:stretch/>
        </p:blipFill>
        <p:spPr>
          <a:xfrm>
            <a:off x="7093080" y="5157720"/>
            <a:ext cx="17809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Spojovací prv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lní čelist: 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podjazykový třmen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umisťujeme 3 mm od okraje gingivy,         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podjazykový tř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 kombinaci s průběžnou spono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sublinguální des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Chalupna\Desktop\Nová složka\DSC_1716.JPG"/>
          <p:cNvPicPr/>
          <p:nvPr/>
        </p:nvPicPr>
        <p:blipFill>
          <a:blip r:embed="rId1"/>
          <a:stretch/>
        </p:blipFill>
        <p:spPr>
          <a:xfrm>
            <a:off x="6516720" y="4076640"/>
            <a:ext cx="19875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Chalupna\Desktop\cast_snim_nahr.jpg"/>
          <p:cNvPicPr/>
          <p:nvPr/>
        </p:nvPicPr>
        <p:blipFill>
          <a:blip r:embed="rId2"/>
          <a:stretch/>
        </p:blipFill>
        <p:spPr>
          <a:xfrm>
            <a:off x="6516720" y="2060640"/>
            <a:ext cx="1942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Tělo náhr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ělo náhrady nahrazuje ztracené zuby a příslušnou část alveolárního výběž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. třída - tělo je redukované s ohledem na přenos ŽT dentál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I. třída - tělo má sedlový tvar  s přenosem ŽT dentomukóz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II. třída – tělo má tvar desky a přenos je ŽT je mukózně dentál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Tělo náhr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r. 5: I. třída                                            Obr. 6: II. tří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r. 7: II. třída                                        Obr. 8: III. tří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Chalupna\Desktop\180px-Oberkiefer_Teilprothese_20100112_002.jpg"/>
          <p:cNvPicPr/>
          <p:nvPr/>
        </p:nvPicPr>
        <p:blipFill>
          <a:blip r:embed="rId1"/>
          <a:stretch/>
        </p:blipFill>
        <p:spPr>
          <a:xfrm>
            <a:off x="5148360" y="1700280"/>
            <a:ext cx="3024000" cy="201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Chalupna\Desktop\Removable_partial_acrylic_resin_denture_742.jpg"/>
          <p:cNvPicPr/>
          <p:nvPr/>
        </p:nvPicPr>
        <p:blipFill>
          <a:blip r:embed="rId2"/>
          <a:stretch/>
        </p:blipFill>
        <p:spPr>
          <a:xfrm>
            <a:off x="5219640" y="4221000"/>
            <a:ext cx="2773440" cy="243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1700280"/>
            <a:ext cx="3024360" cy="216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1687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9280" y="134100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e obrázků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1,2,5, 7: Autorem fotografií, není-li uvedeno jinak, je Mgr. Hana Chalupná. Na fotografiích jsou školní práce žák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řední zdravotnické školy a vyšší odborné školy zdravotnické Karlovy Vary, oboru Asistent zubního technik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3: Snímatelná protetika, skeletové náhrady.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 Sixthdense-dent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[online]. [cit. 2.10.2013].Dostupné z www: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http://www.sixthsense.cz/dent/?page=12&amp;protetik=10 &gt; autor neuved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4: DOSTÁLOVÁ, T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Fixní a snímatelná protetika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1. vyd. Praha: Grada, 2004. ISBN 80-247-0655-5. str. 1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6, 8: Částečná snímatelná náhrada,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 Wikiskripta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[online]. [cit. 2.10.2013].Dostupný pod licenc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reative Commons z www:&lt;http://www.wikiskripta.eu/index.php/%C4%8C%C3%A1ste%C4%8Dn%C3%A1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n%C3%ADmateln%C3%A1_n%C3%A1hrada &gt; autor neuved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roj tex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OSTÁLOVÁ, T.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Fixní a snímatelná protetika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. 1. vyd. Praha: Grada, 2004. ISBN 80-247-0655-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0:46:23Z</dcterms:created>
  <dc:creator>Hana Chalupná</dc:creator>
  <dc:description/>
  <dc:language>en-US</dc:language>
  <cp:lastModifiedBy>Chalupna</cp:lastModifiedBy>
  <dcterms:modified xsi:type="dcterms:W3CDTF">2013-11-19T19:44:23Z</dcterms:modified>
  <cp:revision>95</cp:revision>
  <dc:subject/>
  <dc:title>Snímek 1</dc:title>
</cp:coreProperties>
</file>